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613-363E-476D-9322-8D3A8ADD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5A8-2A36-4E4C-A6A5-B785366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3EB-D76A-4776-9E3E-1E65B1FB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8BC-0B0A-494B-96A2-59320B64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CB45-3BE0-4FA7-8C55-E275236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D09-F4A8-4AE3-B758-1983D9A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D4D-CAE3-4E25-94F7-E8622C4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56F-F2BE-460F-821E-28C83CB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692-37C0-4691-AF7E-918FFE6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836-1E7D-41C0-AA95-365E2E13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84B3-742A-4035-BB64-F28054F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2AA-17B5-4713-A911-ED48D1E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7784-F87B-460D-BB44-0B56F31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BA20-88CE-4FE6-B977-BEB4BFD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561B-EDC7-48BE-9F53-A841877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82A8-27C1-491F-8E64-83D9FD05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A414-3981-4259-A2C2-4D9759AF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7A1-9519-4EBC-A918-40990EC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C9E-079C-4D05-B33C-193DF24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547-1AA8-45B2-8971-55C7362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11B-680F-416C-8DF8-D4A5E9D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F72-B463-4CB0-BE87-C14CAE8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6AD-7D00-4993-B365-8BA874D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74C-ACB4-4FAB-98BA-30CA154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3C9-ABC3-49EB-AAA7-86B2C7A7707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6DC3-3EC9-4054-BCF9-3CED6D3DC84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six-hundred second tour through The OAQPS Data Ware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no hard hat requi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hil Dickerson, US E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82880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4691160"/>
            <a:ext cx="2155680" cy="216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nection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o source data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S, NEI, AIR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ed to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s Web site, AIRQuest Maps, AIRStats, and soon AIR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tat – regional EPA Strategic Plan report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IG?  DataFed?  AIRNow T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cent Enhanc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S 2004 – 2007 at the AQ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MAQ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P 2004 – 2007 at the AQ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MAQ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AR from a site at University of Maryland - Baltimore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ned Enhanc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implementation of Oracle Spa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llow all data to become geo-referenced and support geospati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s with other tools and data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can serve as a single connection point, rather than systems connecting to each sour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INSIDE EPA’s fire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can be made, but must b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may be able to access via web services or 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in “O&amp;M”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mature tech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over (and fund) new datasets that should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pps and processes directly access sour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data volume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easier tempor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s it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ata warehouse, according to Webopedia:  …generally refers to the combination of many different databases across an entire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just that – combining core databases and geospatial layers that are used by air quality anal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it no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ource of “new”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is a one-stop shop for air quality analyses, but does not create any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ysis or visualization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is, at the end of the day, a massiv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L:  Extract, Transform and 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fies how to treat sour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integration and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utomatically on a periodic basis, depending upon the source dataset’s updat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cle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cle Spatial Data Engine (SDE) and ArcGIS server for geospatial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it hav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issions, ambient, census, met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to a common aggregation level –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orally, the data varies according to the time period of the source data system and/or the data volu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is the shortest time period avail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486400" y="6553080"/>
            <a:ext cx="542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76520" y="6551640"/>
            <a:ext cx="1333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 Sour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724120"/>
            <a:ext cx="457200" cy="235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724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Utility Configur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105000"/>
            <a:ext cx="1447920" cy="235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105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Utility Dail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4191120"/>
            <a:ext cx="51055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80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ir Quality(AQ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3505320"/>
            <a:ext cx="14479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429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Toxic Emiss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17800"/>
            <a:ext cx="3810240" cy="220680"/>
          </a:xfrm>
          <a:prstGeom prst="rect">
            <a:avLst/>
          </a:prstGeom>
          <a:solidFill>
            <a:srgbClr val="ff99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733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riteria Emiss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344680"/>
            <a:ext cx="228600" cy="219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44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tack Test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963800"/>
            <a:ext cx="533520" cy="218880"/>
          </a:xfrm>
          <a:prstGeom prst="rect">
            <a:avLst/>
          </a:prstGeom>
          <a:solidFill>
            <a:srgbClr val="99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63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oal Samplin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84360"/>
            <a:ext cx="1447920" cy="218880"/>
          </a:xfrm>
          <a:prstGeom prst="rect">
            <a:avLst/>
          </a:prstGeom>
          <a:solidFill>
            <a:srgbClr val="66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5843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eteorologic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03480"/>
            <a:ext cx="457200" cy="258480"/>
          </a:xfrm>
          <a:prstGeom prst="rect">
            <a:avLst/>
          </a:prstGeom>
          <a:solidFill>
            <a:srgbClr val="66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03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57200"/>
            <a:ext cx="65530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rrent Data Summary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172200"/>
            <a:ext cx="5790960" cy="0"/>
          </a:xfrm>
          <a:prstGeom prst="line">
            <a:avLst/>
          </a:prstGeom>
          <a:ln w="507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61722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8932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61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0920" y="617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257800"/>
            <a:ext cx="4724640" cy="235080"/>
          </a:xfrm>
          <a:prstGeom prst="rect">
            <a:avLst/>
          </a:prstGeom>
          <a:solidFill>
            <a:srgbClr val="ff33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181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M Speci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876920"/>
            <a:ext cx="6858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8769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Improv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4572000"/>
            <a:ext cx="990720" cy="228600"/>
          </a:xfrm>
          <a:prstGeom prst="rect">
            <a:avLst/>
          </a:prstGeom>
          <a:solidFill>
            <a:srgbClr val="9900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IRNow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638680"/>
            <a:ext cx="304920" cy="228600"/>
          </a:xfrm>
          <a:prstGeom prst="rect">
            <a:avLst/>
          </a:prstGeom>
          <a:solidFill>
            <a:srgbClr val="333333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638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NAT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904080" cy="523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3581280" y="2743200"/>
            <a:ext cx="1557360" cy="1890720"/>
            <a:chOff x="3581280" y="2743200"/>
            <a:chExt cx="1557360" cy="1890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5573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886200" y="2971800"/>
              <a:ext cx="76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6666"/>
                  </a:solidFill>
                  <a:latin typeface="Arial Black"/>
                </a:rPr>
                <a:t>AirQuest</a:t>
              </a:r>
              <a:endParaRPr b="0" lang="en-US" sz="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 Value Ch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lives in Section 3: Aggregation, Integration, Processing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, AQS, AIRNow, etc. are the Section 2 Primary Storag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Explorer, The Google Earth Emissions Site, AIRQuest Maps, and other tools connect to AIRQuest to do analysis and visualization (Section 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904080" cy="52340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3581280" y="2743200"/>
            <a:ext cx="1557360" cy="1890720"/>
            <a:chOff x="3581280" y="2743200"/>
            <a:chExt cx="1557360" cy="189072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5573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86200" y="2971800"/>
              <a:ext cx="76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6666"/>
                  </a:solidFill>
                  <a:latin typeface="Arial Black"/>
                </a:rPr>
                <a:t>AirQuest</a:t>
              </a:r>
              <a:endParaRPr b="0" lang="en-US" sz="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43:43Z</dcterms:created>
  <dc:creator> </dc:creator>
  <dc:description/>
  <dc:language>en-US</dc:language>
  <cp:lastModifiedBy>Phil Dickerson</cp:lastModifiedBy>
  <dcterms:modified xsi:type="dcterms:W3CDTF">2008-02-12T03:15:12Z</dcterms:modified>
  <cp:revision>9</cp:revision>
  <dc:subject/>
  <dc:title>Slide 1</dc:title>
</cp:coreProperties>
</file>